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3B5-6EB8-4548-879E-A20E10A8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3FA-2E0D-4A08-B37C-0DF00AFD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22B-472C-4B0E-8B02-2F0D2623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47E-0E6D-41B8-BA1F-05E79E1E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0FF-0595-42AE-A0B4-CDE4BCE1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5BF-3603-4CF8-BDA7-9734B289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91B-9E82-4CFE-9771-2F51DC99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7A9-C19D-4DA7-8FA3-2988789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C61-97E1-4312-924A-8B6E456F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CE1-9419-4248-9F3B-BBB835F6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BB7-6C26-481C-B545-A98DE588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15C-5919-43D5-A3A7-6FB082B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FEB7-2395-4B75-9621-D564594000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haracter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Writers think carefully about the characters that they create.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he type of person your main character is sets a tone for your story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In adventure stories, the main character is usually considered a hero or heroin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… </a:t>
            </a:r>
            <a:r>
              <a:rPr b="0" i="1" lang="en-US" sz="3600" spc="-1" strike="noStrike">
                <a:solidFill>
                  <a:srgbClr val="dfd293"/>
                </a:solidFill>
                <a:latin typeface="Arial"/>
              </a:rPr>
              <a:t>Brave Irene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did Irene do that made her seem like a hero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15080" y="3809880"/>
            <a:ext cx="1562040" cy="192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8880" y="4191120"/>
            <a:ext cx="25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293"/>
                </a:solidFill>
                <a:latin typeface="Arial"/>
              </a:rPr>
              <a:t>Brave Ir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illiam Ste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your character.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What will he/she do that is considered brave or courage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Remember that a character does not have to save someone from a burning building to be considered br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Sometimes a character can do something very simple and still be br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For example…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Your character might be lost and have to find her way h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Your character may climb a tree to save a ki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Think about your character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Today as your are creating your character, think about different ways you can show courage and bravery in that charac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Be prepared to share your ideas at the end of the workshop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39:47Z</dcterms:created>
  <dc:creator>AAPS</dc:creator>
  <dc:description/>
  <dc:language>en-US</dc:language>
  <cp:lastModifiedBy>AAPS</cp:lastModifiedBy>
  <dcterms:modified xsi:type="dcterms:W3CDTF">2007-01-11T16:25:21Z</dcterms:modified>
  <cp:revision>6</cp:revision>
  <dc:subject/>
  <dc:title>Character </dc:title>
</cp:coreProperties>
</file>